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Welcome participants.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CA07-B7F2-4EBE-911E-B11E0CEF3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0346-DAD4-4138-877B-DF8A720C2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F13F-6AD3-4EE9-AA34-64592A4A2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8E5A-9F43-410D-AF37-8F1A1D6C8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CADF-9943-4329-A6ED-D7F9EB69D5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29F0-9B3B-4B34-92AB-F9309B2E92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74CD-C456-4FBB-86FE-62A02E1C71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2D14-5BBB-48BA-8324-936C886D6F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B542-0095-4DDB-836F-9A0EDB394F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2C1F-CCFB-46EA-BAAE-BC8EC085ED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4FC7-E1FB-4908-85FD-340427CEB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32B1-F838-4A26-A733-39EBB7036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B746-7F99-47B9-8709-BA6223EAA9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7A48-9D24-4E04-8229-26A883C3E8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8541-5F3B-4CB3-AEFB-EDCA2E486C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309A-803E-40CE-88C0-64B464CB59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C431-C587-49B3-BB72-6BC16074AE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54A6-8C5E-4619-AA17-41E74D6AF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ED73-B066-4EE9-9A9C-A989BE6DA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47E8-62B2-4CCE-9735-CA404F803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F975-E28D-46E4-AA27-B74A9662E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6DDA-EC52-4E10-9AC7-CEDEFEE53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CF23-CA3A-438D-940F-5E2AE2910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13CE-2B72-44DF-AB05-EBACE98DA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AAB4-DC28-4D9A-A862-3985CAC5AA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1310-B3AF-4092-B2BD-A2F140FB0C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0"/>
            <a:ext cx="9144000" cy="6535800"/>
          </a:xfrm>
          <a:prstGeom prst="rect">
            <a:avLst/>
          </a:prstGeom>
          <a:gradFill rotWithShape="0">
            <a:gsLst>
              <a:gs pos="0">
                <a:srgbClr val="d1d1f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5356080"/>
            <a:ext cx="914400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325440" y="270000"/>
            <a:ext cx="2654280" cy="730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9EF9-302A-4126-9C96-A650A49F38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490d8"/>
                </a:solidFill>
                <a:latin typeface="Tahoma"/>
              </a:rPr>
              <a:t>Responding to Students Over Time</a:t>
            </a:r>
            <a:endParaRPr b="0" lang="en-US" sz="48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DCE5-35EE-4B65-B2FE-F68D7B12A2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835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00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ca9"/>
                </a:solidFill>
                <a:latin typeface="Arial"/>
              </a:rPr>
              <a:t>Triangle Dot Problem</a:t>
            </a:r>
            <a:endParaRPr b="0" lang="en-US" sz="4400" spc="-1" strike="noStrike">
              <a:solidFill>
                <a:srgbClr val="2b5ca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462800" y="6245280"/>
            <a:ext cx="31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A73C-317C-4B55-937E-39C8D16A54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SC</dc:creator>
  <dc:description/>
  <dc:language>en-US</dc:language>
  <cp:lastModifiedBy>Kaye</cp:lastModifiedBy>
  <dcterms:modified xsi:type="dcterms:W3CDTF">2011-07-26T20:29:18Z</dcterms:modified>
  <cp:revision>36</cp:revision>
  <dc:subject/>
  <dc:title>&lt;Title&gt;</dc:title>
</cp:coreProperties>
</file>